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CB7-F913-4B1D-BA25-89D41086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E2A-856A-4B5D-898A-4E2CFE2F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0DC-7D99-44E6-83A8-3253E419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B23-60F6-4EBE-81AE-A06A30D4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5CA-3E1F-4078-AF60-4C9077C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ADD-D363-4DFA-8327-645A5395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A7E-7D63-42D7-AD84-A36F2875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889-58EE-491A-8593-C9A4D5EF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D51-3DB4-45BA-984C-9E0C65C1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D2F-7DCF-4EE6-8A53-A46B066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8DA-1DAC-4D67-86A4-A1C5E30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6DA-BE06-4624-9EE1-5EC30B7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B23-F3FD-41E6-9021-24FC9EA8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564240" y="0"/>
          <a:ext cx="257976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64240" y="0"/>
                    <a:ext cx="2579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0"/>
          <a:ext cx="57312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73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La strategia della Regione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Emilia-Romagn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sulla società dell’informazion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iacenza - 26 Gennai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5791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audenzio Garav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564240" y="0"/>
          <a:ext cx="25797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64240" y="0"/>
                    <a:ext cx="2579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0" y="0"/>
          <a:ext cx="5731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73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iano Telematico Regionale -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gramma operativo 2003 (seg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iziative che continuano dal 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infrastrutture di tele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te privata a banda larga della Pubblica Amministrazione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te radiomobile regionale R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progetti di e-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3867120"/>
          <a:ext cx="6991560" cy="413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67120"/>
                    <a:ext cx="699156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72F-FA12-445A-AF2D-A42C0BB730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iano Telematico Regionale -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gramma operativo 2003 (seg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iziative che continuano dal 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presupposti per la Società dell’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ricerca sulle 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regolamen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’indirizzo allo sviluppo delle telecomunic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Benchmark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e il monitoragg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centro regionale di competenza sull’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380-8377-40A5-889A-DA2567CA2D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iano Telematico Regionale -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gramma operativo 2003 (seg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nuove iniz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elelavoro nelle P.A. della Reg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istema di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e-learning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fed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Videocomun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eni cultur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etaportale della Pubblica Amminist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agrafe delle 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entro per lo sviluppo della telematica reg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890-A8DC-4ABC-83FF-1588A4CC8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e finalità dell’iniziativa di diffusione della larga banda in Emilia-Romag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nostra strategia in questa direzione ha le seguenti finalità principa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alizzare una moderna rete di comunicazione per le pubbliche amministrazioni locali che faciliti la comparsa di sistemi informatici innovativi e la diffusione di servizi avanzati come la videocomu-nicazione e abbia una vita di (almeno) 30 anni, alla avanguardia della tecnolog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muovere il concetto di gruppo di acquisto per servizi di comunicazione a favore di tutta la PA locale in reg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B87-82B0-488C-A640-7C1D6A48E2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finalità dell’iniziativa di diffusione della larga banda in Emilia-Romagna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rescere la competitività del territorio regionale facilitando l’accesso a servizi a banda larga da parte di imprese e cittadini attraverso una estensione ulteriore della infrastruttura (ultimo miglio) da parte degli operatori di telecomunica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durre 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igital divid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tipo geografico-territorial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3FB-4867-4A08-B5DC-08F8EC1240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Quale ruolo per la 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24200" y="2122560"/>
            <a:ext cx="6095880" cy="4201560"/>
            <a:chOff x="1924200" y="2122560"/>
            <a:chExt cx="6095880" cy="4201560"/>
          </a:xfrm>
        </p:grpSpPr>
        <p:sp>
          <p:nvSpPr>
            <p:cNvPr id="101" name=""/>
            <p:cNvSpPr/>
            <p:nvPr/>
          </p:nvSpPr>
          <p:spPr>
            <a:xfrm>
              <a:off x="4971960" y="4215600"/>
              <a:ext cx="3048120" cy="210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24200" y="4215600"/>
              <a:ext cx="3047760" cy="210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71960" y="2122560"/>
              <a:ext cx="3048120" cy="209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24200" y="2122560"/>
              <a:ext cx="3047760" cy="209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24200" y="212256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24200" y="42156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24200" y="632412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24200" y="2122560"/>
              <a:ext cx="0" cy="42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71960" y="2122560"/>
              <a:ext cx="0" cy="42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20080" y="2122560"/>
              <a:ext cx="0" cy="42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24200" y="1676520"/>
            <a:ext cx="6095880" cy="438120"/>
            <a:chOff x="1924200" y="1676520"/>
            <a:chExt cx="6095880" cy="438120"/>
          </a:xfrm>
        </p:grpSpPr>
        <p:sp>
          <p:nvSpPr>
            <p:cNvPr id="112" name=""/>
            <p:cNvSpPr/>
            <p:nvPr/>
          </p:nvSpPr>
          <p:spPr>
            <a:xfrm>
              <a:off x="4971960" y="1676520"/>
              <a:ext cx="3048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b6f6a"/>
                  </a:solidFill>
                  <a:latin typeface="Times New Roman"/>
                </a:rPr>
                <a:t>proprie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24200" y="1676520"/>
              <a:ext cx="3047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b6f6a"/>
                  </a:solidFill>
                  <a:latin typeface="Times New Roman"/>
                </a:rPr>
                <a:t>affit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24200" y="1676520"/>
              <a:ext cx="3047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24200" y="2114640"/>
              <a:ext cx="3047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4200" y="1676520"/>
              <a:ext cx="0" cy="438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71960" y="167652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20080" y="1676520"/>
              <a:ext cx="0" cy="438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1960" y="1676520"/>
              <a:ext cx="3048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71960" y="2114640"/>
              <a:ext cx="3048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95560" y="2100240"/>
            <a:ext cx="733320" cy="4064040"/>
            <a:chOff x="1195560" y="2100240"/>
            <a:chExt cx="733320" cy="4064040"/>
          </a:xfrm>
        </p:grpSpPr>
        <p:sp>
          <p:nvSpPr>
            <p:cNvPr id="122" name=""/>
            <p:cNvSpPr/>
            <p:nvPr/>
          </p:nvSpPr>
          <p:spPr>
            <a:xfrm>
              <a:off x="1195560" y="4132440"/>
              <a:ext cx="7333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b6f6a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5560" y="2100240"/>
              <a:ext cx="733320" cy="20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b6f6a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95560" y="2100240"/>
              <a:ext cx="73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95560" y="4132440"/>
              <a:ext cx="73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5560" y="6164280"/>
              <a:ext cx="73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95560" y="2100240"/>
              <a:ext cx="0" cy="203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8880" y="2100240"/>
              <a:ext cx="0" cy="203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95560" y="4132440"/>
              <a:ext cx="0" cy="2031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28880" y="4132440"/>
              <a:ext cx="0" cy="2031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rot="16200000">
            <a:off x="-1068120" y="3897000"/>
            <a:ext cx="4130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gest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81360" y="1305000"/>
            <a:ext cx="617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infrastrut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971800"/>
            <a:ext cx="1676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P/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971800"/>
            <a:ext cx="1676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per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4648320"/>
            <a:ext cx="2819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iavi in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267080"/>
            <a:ext cx="281916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Investimenti pubbl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981080" y="5257800"/>
            <a:ext cx="2971800" cy="834840"/>
            <a:chOff x="1981080" y="5257800"/>
            <a:chExt cx="2971800" cy="834840"/>
          </a:xfrm>
        </p:grpSpPr>
        <p:sp>
          <p:nvSpPr>
            <p:cNvPr id="138" name=""/>
            <p:cNvSpPr/>
            <p:nvPr/>
          </p:nvSpPr>
          <p:spPr>
            <a:xfrm>
              <a:off x="1981080" y="5257800"/>
              <a:ext cx="2971800" cy="8348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5377320"/>
              <a:ext cx="2819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isolve solo le esigenze di connettività della 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952880" y="5029200"/>
            <a:ext cx="3124440" cy="1057320"/>
            <a:chOff x="4952880" y="5029200"/>
            <a:chExt cx="3124440" cy="1057320"/>
          </a:xfrm>
        </p:grpSpPr>
        <p:sp>
          <p:nvSpPr>
            <p:cNvPr id="141" name=""/>
            <p:cNvSpPr/>
            <p:nvPr/>
          </p:nvSpPr>
          <p:spPr>
            <a:xfrm>
              <a:off x="5030640" y="5092560"/>
              <a:ext cx="2968920" cy="99396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029200"/>
              <a:ext cx="312444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300" spc="-1" strike="noStrike">
                  <a:solidFill>
                    <a:srgbClr val="ff0000"/>
                  </a:solidFill>
                  <a:latin typeface="Times New Roman"/>
                </a:rPr>
                <a:t>migliora la competitività del territori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8FB-2775-4076-AF4F-AE31FC873B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celte tecnologiche: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una sint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63400" y="1397160"/>
            <a:ext cx="8047080" cy="4633920"/>
            <a:chOff x="563400" y="1397160"/>
            <a:chExt cx="8047080" cy="4633920"/>
          </a:xfrm>
        </p:grpSpPr>
        <p:sp>
          <p:nvSpPr>
            <p:cNvPr id="145" name=""/>
            <p:cNvSpPr/>
            <p:nvPr/>
          </p:nvSpPr>
          <p:spPr>
            <a:xfrm>
              <a:off x="7716960" y="5103720"/>
              <a:ext cx="89352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6160" y="5103720"/>
              <a:ext cx="1720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4.0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97600" y="5103720"/>
              <a:ext cx="89856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00600" y="5103720"/>
              <a:ext cx="11970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22.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28960" y="5103720"/>
              <a:ext cx="9716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55640" y="5103720"/>
              <a:ext cx="127332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3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400" y="5103720"/>
              <a:ext cx="109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T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6960" y="4176720"/>
              <a:ext cx="8935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11.3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6160" y="4176720"/>
              <a:ext cx="17208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45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97600" y="4176720"/>
              <a:ext cx="8985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1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00600" y="4176720"/>
              <a:ext cx="11970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3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28960" y="4176720"/>
              <a:ext cx="971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2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55640" y="4176720"/>
              <a:ext cx="12733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400" y="4176720"/>
              <a:ext cx="1092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HDS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16960" y="3251160"/>
              <a:ext cx="89352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Verdana"/>
                </a:rPr>
                <a:t>3.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6160" y="3251160"/>
              <a:ext cx="17208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15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0" y="3251160"/>
              <a:ext cx="8985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00600" y="3251160"/>
              <a:ext cx="11970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3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8960" y="3251160"/>
              <a:ext cx="9716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1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55640" y="3251160"/>
              <a:ext cx="127332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3400" y="3251160"/>
              <a:ext cx="10922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S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6960" y="2324160"/>
              <a:ext cx="8935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8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6160" y="2324160"/>
              <a:ext cx="17208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3.4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97600" y="2324160"/>
              <a:ext cx="8985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6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0600" y="2324160"/>
              <a:ext cx="11970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14.7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28960" y="2324160"/>
              <a:ext cx="971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6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55640" y="2324160"/>
              <a:ext cx="12733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2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400" y="2324160"/>
              <a:ext cx="1092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FI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6960" y="1397160"/>
              <a:ext cx="8935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6160" y="1397160"/>
              <a:ext cx="17208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abita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97600" y="1397160"/>
              <a:ext cx="8985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00600" y="1397160"/>
              <a:ext cx="11970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br>
                <a:rPr sz="2000"/>
              </a:b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(km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8960" y="1397160"/>
              <a:ext cx="971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5640" y="1397160"/>
              <a:ext cx="12733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comu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400" y="1397160"/>
              <a:ext cx="1092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Verdana"/>
                </a:rPr>
                <a:t>TE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400" y="1397160"/>
              <a:ext cx="804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3400" y="2324160"/>
              <a:ext cx="804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400" y="3251160"/>
              <a:ext cx="804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400" y="4176720"/>
              <a:ext cx="804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400" y="5103720"/>
              <a:ext cx="804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400" y="6031080"/>
              <a:ext cx="804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400" y="1397160"/>
              <a:ext cx="0" cy="46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55640" y="1397160"/>
              <a:ext cx="0" cy="46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28960" y="1397160"/>
              <a:ext cx="0" cy="46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00600" y="1397160"/>
              <a:ext cx="0" cy="46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97600" y="1397160"/>
              <a:ext cx="0" cy="46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96160" y="1397160"/>
              <a:ext cx="0" cy="46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16960" y="1397160"/>
              <a:ext cx="0" cy="46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10480" y="1397160"/>
              <a:ext cx="0" cy="46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161880" y="5105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0040" y="5105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60960" y="5181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676-E4F8-485C-ABF2-9770E9A47F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00160" y="380520"/>
            <a:ext cx="659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frastruttura in cif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066680" y="1447920"/>
            <a:ext cx="6553440" cy="4064040"/>
            <a:chOff x="1066680" y="1447920"/>
            <a:chExt cx="6553440" cy="4064040"/>
          </a:xfrm>
        </p:grpSpPr>
        <p:sp>
          <p:nvSpPr>
            <p:cNvPr id="199" name=""/>
            <p:cNvSpPr/>
            <p:nvPr/>
          </p:nvSpPr>
          <p:spPr>
            <a:xfrm>
              <a:off x="7388280" y="4495680"/>
              <a:ext cx="23184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8520" y="4495680"/>
              <a:ext cx="257976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25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6680" y="4495680"/>
              <a:ext cx="374184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ot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8280" y="3479760"/>
              <a:ext cx="231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8520" y="3479760"/>
              <a:ext cx="2579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15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6680" y="3479760"/>
              <a:ext cx="3741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Interconn./Rileg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8280" y="2463840"/>
              <a:ext cx="231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8520" y="2463840"/>
              <a:ext cx="2579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66680" y="2463840"/>
              <a:ext cx="3741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Dors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8280" y="1447920"/>
              <a:ext cx="231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08520" y="1447920"/>
              <a:ext cx="2579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Estensione (k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1447920"/>
              <a:ext cx="3741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Segmento di 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6680" y="1447920"/>
              <a:ext cx="632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6680" y="2463840"/>
              <a:ext cx="632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6680" y="3479760"/>
              <a:ext cx="632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66680" y="4495680"/>
              <a:ext cx="632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5511960"/>
              <a:ext cx="632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1447920"/>
              <a:ext cx="0" cy="406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8520" y="1447920"/>
              <a:ext cx="0" cy="406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88280" y="1447920"/>
              <a:ext cx="0" cy="406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0120" y="1447920"/>
              <a:ext cx="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88280" y="1447920"/>
              <a:ext cx="231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0120" y="2463840"/>
              <a:ext cx="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0120" y="3479760"/>
              <a:ext cx="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0120" y="4495680"/>
              <a:ext cx="0" cy="101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88280" y="5511960"/>
              <a:ext cx="231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90720" y="1114560"/>
            <a:ext cx="53766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6f6a"/>
                </a:solidFill>
                <a:latin typeface="Verdana"/>
              </a:rPr>
              <a:t>(</a:t>
            </a:r>
            <a:r>
              <a:rPr b="1" lang="it-IT" sz="1200" spc="-1" strike="noStrike">
                <a:solidFill>
                  <a:srgbClr val="ff3300"/>
                </a:solidFill>
                <a:latin typeface="Verdana"/>
              </a:rPr>
              <a:t>attenzione</a:t>
            </a:r>
            <a:r>
              <a:rPr b="0" lang="it-IT" sz="1200" spc="-1" strike="noStrike">
                <a:solidFill>
                  <a:srgbClr val="0b6f6a"/>
                </a:solidFill>
                <a:latin typeface="Verdana"/>
              </a:rPr>
              <a:t>: cifre soggette ad aggiustam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334-8EA3-4480-AE6E-20879777F2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prima fase del proget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 prima fas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quella in cui viene costruita la rete primaria di colle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676520" y="2166840"/>
            <a:ext cx="4724280" cy="1414440"/>
            <a:chOff x="1676520" y="2166840"/>
            <a:chExt cx="4724280" cy="1414440"/>
          </a:xfrm>
        </p:grpSpPr>
        <p:sp>
          <p:nvSpPr>
            <p:cNvPr id="229" name=""/>
            <p:cNvSpPr/>
            <p:nvPr/>
          </p:nvSpPr>
          <p:spPr>
            <a:xfrm>
              <a:off x="4287960" y="2595600"/>
              <a:ext cx="971280" cy="882720"/>
            </a:xfrm>
            <a:custGeom>
              <a:avLst/>
              <a:gdLst/>
              <a:ahLst/>
              <a:rect l="l" t="t" r="r" b="b"/>
              <a:pathLst>
                <a:path w="1488" h="900">
                  <a:moveTo>
                    <a:pt x="792" y="72"/>
                  </a:moveTo>
                  <a:cubicBezTo>
                    <a:pt x="634" y="112"/>
                    <a:pt x="483" y="186"/>
                    <a:pt x="348" y="276"/>
                  </a:cubicBezTo>
                  <a:cubicBezTo>
                    <a:pt x="281" y="321"/>
                    <a:pt x="216" y="349"/>
                    <a:pt x="168" y="420"/>
                  </a:cubicBezTo>
                  <a:cubicBezTo>
                    <a:pt x="122" y="489"/>
                    <a:pt x="153" y="444"/>
                    <a:pt x="72" y="552"/>
                  </a:cubicBezTo>
                  <a:cubicBezTo>
                    <a:pt x="51" y="581"/>
                    <a:pt x="40" y="616"/>
                    <a:pt x="24" y="648"/>
                  </a:cubicBezTo>
                  <a:cubicBezTo>
                    <a:pt x="16" y="664"/>
                    <a:pt x="0" y="696"/>
                    <a:pt x="0" y="696"/>
                  </a:cubicBezTo>
                  <a:cubicBezTo>
                    <a:pt x="4" y="720"/>
                    <a:pt x="1" y="746"/>
                    <a:pt x="12" y="768"/>
                  </a:cubicBezTo>
                  <a:cubicBezTo>
                    <a:pt x="17" y="779"/>
                    <a:pt x="92" y="814"/>
                    <a:pt x="96" y="816"/>
                  </a:cubicBezTo>
                  <a:cubicBezTo>
                    <a:pt x="259" y="881"/>
                    <a:pt x="359" y="890"/>
                    <a:pt x="540" y="900"/>
                  </a:cubicBezTo>
                  <a:cubicBezTo>
                    <a:pt x="620" y="896"/>
                    <a:pt x="700" y="894"/>
                    <a:pt x="780" y="888"/>
                  </a:cubicBezTo>
                  <a:cubicBezTo>
                    <a:pt x="957" y="874"/>
                    <a:pt x="1089" y="732"/>
                    <a:pt x="1224" y="636"/>
                  </a:cubicBezTo>
                  <a:cubicBezTo>
                    <a:pt x="1321" y="567"/>
                    <a:pt x="1449" y="452"/>
                    <a:pt x="1488" y="336"/>
                  </a:cubicBezTo>
                  <a:cubicBezTo>
                    <a:pt x="1487" y="319"/>
                    <a:pt x="1484" y="190"/>
                    <a:pt x="1464" y="144"/>
                  </a:cubicBezTo>
                  <a:cubicBezTo>
                    <a:pt x="1424" y="50"/>
                    <a:pt x="1298" y="29"/>
                    <a:pt x="1212" y="0"/>
                  </a:cubicBezTo>
                  <a:cubicBezTo>
                    <a:pt x="1085" y="8"/>
                    <a:pt x="965" y="18"/>
                    <a:pt x="840" y="36"/>
                  </a:cubicBezTo>
                  <a:cubicBezTo>
                    <a:pt x="830" y="39"/>
                    <a:pt x="721" y="72"/>
                    <a:pt x="792" y="72"/>
                  </a:cubicBezTo>
                  <a:close/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8760" y="2806560"/>
              <a:ext cx="1369800" cy="492120"/>
            </a:xfrm>
            <a:custGeom>
              <a:avLst/>
              <a:gdLst/>
              <a:ahLst/>
              <a:rect l="l" t="t" r="r" b="b"/>
              <a:pathLst>
                <a:path w="1880" h="442">
                  <a:moveTo>
                    <a:pt x="1713" y="206"/>
                  </a:moveTo>
                  <a:cubicBezTo>
                    <a:pt x="1607" y="171"/>
                    <a:pt x="1488" y="184"/>
                    <a:pt x="1377" y="170"/>
                  </a:cubicBezTo>
                  <a:cubicBezTo>
                    <a:pt x="1281" y="138"/>
                    <a:pt x="1188" y="92"/>
                    <a:pt x="1089" y="62"/>
                  </a:cubicBezTo>
                  <a:cubicBezTo>
                    <a:pt x="1065" y="55"/>
                    <a:pt x="1042" y="38"/>
                    <a:pt x="1017" y="38"/>
                  </a:cubicBezTo>
                  <a:cubicBezTo>
                    <a:pt x="789" y="34"/>
                    <a:pt x="561" y="30"/>
                    <a:pt x="333" y="26"/>
                  </a:cubicBezTo>
                  <a:cubicBezTo>
                    <a:pt x="230" y="0"/>
                    <a:pt x="171" y="5"/>
                    <a:pt x="57" y="14"/>
                  </a:cubicBezTo>
                  <a:cubicBezTo>
                    <a:pt x="0" y="99"/>
                    <a:pt x="62" y="175"/>
                    <a:pt x="141" y="218"/>
                  </a:cubicBezTo>
                  <a:cubicBezTo>
                    <a:pt x="174" y="236"/>
                    <a:pt x="217" y="233"/>
                    <a:pt x="249" y="254"/>
                  </a:cubicBezTo>
                  <a:cubicBezTo>
                    <a:pt x="328" y="306"/>
                    <a:pt x="409" y="323"/>
                    <a:pt x="501" y="338"/>
                  </a:cubicBezTo>
                  <a:cubicBezTo>
                    <a:pt x="534" y="343"/>
                    <a:pt x="564" y="359"/>
                    <a:pt x="597" y="362"/>
                  </a:cubicBezTo>
                  <a:cubicBezTo>
                    <a:pt x="661" y="369"/>
                    <a:pt x="725" y="370"/>
                    <a:pt x="789" y="374"/>
                  </a:cubicBezTo>
                  <a:cubicBezTo>
                    <a:pt x="873" y="380"/>
                    <a:pt x="957" y="394"/>
                    <a:pt x="1041" y="398"/>
                  </a:cubicBezTo>
                  <a:cubicBezTo>
                    <a:pt x="1165" y="405"/>
                    <a:pt x="1289" y="406"/>
                    <a:pt x="1413" y="410"/>
                  </a:cubicBezTo>
                  <a:cubicBezTo>
                    <a:pt x="1548" y="427"/>
                    <a:pt x="1689" y="442"/>
                    <a:pt x="1821" y="398"/>
                  </a:cubicBezTo>
                  <a:cubicBezTo>
                    <a:pt x="1837" y="351"/>
                    <a:pt x="1880" y="325"/>
                    <a:pt x="1833" y="278"/>
                  </a:cubicBezTo>
                  <a:cubicBezTo>
                    <a:pt x="1813" y="258"/>
                    <a:pt x="1785" y="246"/>
                    <a:pt x="1761" y="230"/>
                  </a:cubicBezTo>
                  <a:cubicBezTo>
                    <a:pt x="1721" y="203"/>
                    <a:pt x="1651" y="206"/>
                    <a:pt x="1713" y="206"/>
                  </a:cubicBezTo>
                  <a:close/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92520" y="2376360"/>
              <a:ext cx="650880" cy="646200"/>
            </a:xfrm>
            <a:custGeom>
              <a:avLst/>
              <a:gdLst/>
              <a:ahLst/>
              <a:rect l="l" t="t" r="r" b="b"/>
              <a:pathLst>
                <a:path w="892" h="580">
                  <a:moveTo>
                    <a:pt x="732" y="4"/>
                  </a:moveTo>
                  <a:cubicBezTo>
                    <a:pt x="615" y="27"/>
                    <a:pt x="497" y="62"/>
                    <a:pt x="384" y="100"/>
                  </a:cubicBezTo>
                  <a:cubicBezTo>
                    <a:pt x="353" y="110"/>
                    <a:pt x="303" y="118"/>
                    <a:pt x="276" y="136"/>
                  </a:cubicBezTo>
                  <a:cubicBezTo>
                    <a:pt x="228" y="168"/>
                    <a:pt x="180" y="200"/>
                    <a:pt x="132" y="232"/>
                  </a:cubicBezTo>
                  <a:cubicBezTo>
                    <a:pt x="120" y="240"/>
                    <a:pt x="108" y="248"/>
                    <a:pt x="96" y="256"/>
                  </a:cubicBezTo>
                  <a:cubicBezTo>
                    <a:pt x="84" y="264"/>
                    <a:pt x="60" y="280"/>
                    <a:pt x="60" y="280"/>
                  </a:cubicBezTo>
                  <a:cubicBezTo>
                    <a:pt x="25" y="332"/>
                    <a:pt x="15" y="399"/>
                    <a:pt x="0" y="460"/>
                  </a:cubicBezTo>
                  <a:cubicBezTo>
                    <a:pt x="4" y="480"/>
                    <a:pt x="2" y="502"/>
                    <a:pt x="12" y="520"/>
                  </a:cubicBezTo>
                  <a:cubicBezTo>
                    <a:pt x="38" y="565"/>
                    <a:pt x="205" y="576"/>
                    <a:pt x="240" y="580"/>
                  </a:cubicBezTo>
                  <a:cubicBezTo>
                    <a:pt x="346" y="573"/>
                    <a:pt x="449" y="570"/>
                    <a:pt x="552" y="544"/>
                  </a:cubicBezTo>
                  <a:cubicBezTo>
                    <a:pt x="596" y="533"/>
                    <a:pt x="684" y="508"/>
                    <a:pt x="684" y="508"/>
                  </a:cubicBezTo>
                  <a:cubicBezTo>
                    <a:pt x="736" y="473"/>
                    <a:pt x="777" y="434"/>
                    <a:pt x="828" y="400"/>
                  </a:cubicBezTo>
                  <a:cubicBezTo>
                    <a:pt x="840" y="364"/>
                    <a:pt x="852" y="328"/>
                    <a:pt x="864" y="292"/>
                  </a:cubicBezTo>
                  <a:cubicBezTo>
                    <a:pt x="868" y="280"/>
                    <a:pt x="876" y="256"/>
                    <a:pt x="876" y="256"/>
                  </a:cubicBezTo>
                  <a:cubicBezTo>
                    <a:pt x="861" y="102"/>
                    <a:pt x="892" y="164"/>
                    <a:pt x="792" y="64"/>
                  </a:cubicBezTo>
                  <a:cubicBezTo>
                    <a:pt x="728" y="0"/>
                    <a:pt x="697" y="39"/>
                    <a:pt x="732" y="4"/>
                  </a:cubicBezTo>
                  <a:close/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676520" y="2243160"/>
              <a:ext cx="4724280" cy="1338120"/>
              <a:chOff x="1676520" y="2243160"/>
              <a:chExt cx="4724280" cy="1338120"/>
            </a:xfrm>
          </p:grpSpPr>
          <p:sp>
            <p:nvSpPr>
              <p:cNvPr id="233" name=""/>
              <p:cNvSpPr/>
              <p:nvPr/>
            </p:nvSpPr>
            <p:spPr>
              <a:xfrm>
                <a:off x="1676520" y="2243160"/>
                <a:ext cx="4724280" cy="1338120"/>
              </a:xfrm>
              <a:prstGeom prst="parallelogram">
                <a:avLst>
                  <a:gd name="adj" fmla="val 8826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66760" y="2646720"/>
                <a:ext cx="197712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618080" y="2656800"/>
                <a:ext cx="41184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3794400" y="2898720"/>
                <a:ext cx="246960" cy="28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282120" y="2799720"/>
                <a:ext cx="32940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887920" y="2646720"/>
                <a:ext cx="8208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4279680" y="2646720"/>
                <a:ext cx="16452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299760" y="2394720"/>
                <a:ext cx="32940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901760" y="2860920"/>
                <a:ext cx="246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365360" y="3007800"/>
                <a:ext cx="164520" cy="37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154480" y="2341440"/>
              <a:ext cx="7779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tralcio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3760" y="3022560"/>
              <a:ext cx="804960" cy="42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tralcio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73480" y="2166840"/>
              <a:ext cx="8319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stralcio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67080" y="2362320"/>
            <a:ext cx="685800" cy="30456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5720" y="22096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Stralcio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563-DE83-4E63-83D3-227E8A9D3F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prima fase del proget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attua per stralci geografici success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iniziata alla fine di giugno 2003 e ragionevolmente si chiuderà entro la fine del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ruirà un punto di presenza in ogni territorio comunale con una banda di 100 Mb/sec o 1Gb/sec - a seconda della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prirà con la fibra di almeno il 90% della popolazione; il resto del territorio sarà coperto da satellite e xD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vestimento regionale per la infrastruttura è circa 35 milioni di euro; l’investimento totale (compreso quello dei soggetti attuatori) si valuta in circa 85 milioni di e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928-7913-4F88-9DB2-025281E236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l quadr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Regione Emilia-Romagna ha considerato lo sviluppo delle nuove tecnologie un asse prioritario delle sue politiche 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alizzare un ambiente favorevole allo sviluppo del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-governmen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e pubbliche amministrazioni region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vorire lo sviluppo produttivo per le imprese loc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vorire lo sviluppo della società dell’informaz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pportare la crescita delle attività di ricerca e svilup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8A4-FAEB-405F-8B1C-70DD585C5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orsali in fibra ottica, satellite e xDS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14400" y="1295280"/>
          <a:ext cx="762012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62012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423440" y="5649840"/>
            <a:ext cx="30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Times New Roman"/>
              </a:rPr>
              <a:t>Nb: le connessioni non sono evidenz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D0B-5E65-42BE-A705-4FEB93991C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l quadr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queste ragioni ha predisp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egge regionale “Sviluppo regionale della Società dell’informazione” per la quale la Regione assume una funzione forte di promozione delle iniziative del sistema regione per lo sviluppo delle infrastrutture, dei servizi e dei sistemi informativ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iano telematico Regionale per il periodo 2002-2005; si occupa e investe in due aree: le applicazioni e le infrastrut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piano di supporto alle iniziative di Ricerca e Svilup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69C-E6AD-47F8-930C-CC5BA3B13B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l quadro di riferiment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legge regionale “Sviluppo regionale della Società dell’informazione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egna alla Regione il compi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i attivare infrastrutture e reti telematiche e di gestire il processo di sviluppo regionale in ambito ICT con una struttura di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trutturata in un comitato scientifico, un comitato giuridico-economico e  un articolata partecipazio-ne degli enti loc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50D-62A5-4110-9EBE-999F521C2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l quadro di riferiment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se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merito alla infrastruttura sono state individuati due tipi di intervento. A livello organizzativo la Reg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avorisce la comparsa di un centro servizi di alta competenza per la Pubblica amministra-zione regionale, mentre a livello fisico si favorisce la diffusione della larga b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08C-981F-4992-94CF-8F0A7CAF6A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hema di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egionale per la società dell’in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371600"/>
            <a:ext cx="73152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NSIGLIO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rticolo 6,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905120"/>
            <a:ext cx="55627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IUNTA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rticolo 6, 7,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9718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ferenza tra i rappresenta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gli Enti interess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rticolo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6576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itato permanente di indiriz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 coordinamento con gli EE 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rticolo 6,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343400"/>
            <a:ext cx="2422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rezione 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rticolo 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486400"/>
            <a:ext cx="2361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Gruppo di indirizzo delle telecomunicazion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6095880"/>
            <a:ext cx="23619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Commissione per la legislazio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della società della informazi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876920"/>
            <a:ext cx="2361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Tavolo tecnico degli EE L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er l’</a:t>
            </a:r>
            <a:r>
              <a:rPr b="0" i="1" lang="it-IT" sz="1100" spc="-1" strike="noStrike">
                <a:solidFill>
                  <a:srgbClr val="000000"/>
                </a:solidFill>
                <a:latin typeface="Times New Roman"/>
              </a:rPr>
              <a:t>e-gover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362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25960" y="8234280"/>
            <a:ext cx="27144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.B.  gli Articoli si riferiscono alla nuova leg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3124080"/>
            <a:ext cx="228600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NTRO DI 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PET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rticolo 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38280" y="2438280"/>
            <a:ext cx="2057040" cy="457200"/>
            <a:chOff x="2438280" y="2438280"/>
            <a:chExt cx="2057040" cy="457200"/>
          </a:xfrm>
        </p:grpSpPr>
        <p:sp>
          <p:nvSpPr>
            <p:cNvPr id="72" name=""/>
            <p:cNvSpPr/>
            <p:nvPr/>
          </p:nvSpPr>
          <p:spPr>
            <a:xfrm>
              <a:off x="2438280" y="2438280"/>
              <a:ext cx="20570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48920" y="2438280"/>
              <a:ext cx="892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Articolo 8, 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09680" y="5181480"/>
            <a:ext cx="2057400" cy="762120"/>
            <a:chOff x="2209680" y="5181480"/>
            <a:chExt cx="2057400" cy="762120"/>
          </a:xfrm>
        </p:grpSpPr>
        <p:sp>
          <p:nvSpPr>
            <p:cNvPr id="75" name=""/>
            <p:cNvSpPr/>
            <p:nvPr/>
          </p:nvSpPr>
          <p:spPr>
            <a:xfrm>
              <a:off x="2209680" y="5181480"/>
              <a:ext cx="2057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3960" y="5334120"/>
              <a:ext cx="166968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Comitato Scienti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Articolo 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E4C-CB85-4F0B-A693-4696F4B11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visione d’insieme sullo sviluppo dei servizi on line della PA in Emilia-Roma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1220760"/>
            <a:ext cx="6934320" cy="54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26B-1DBE-4BBE-91F2-7682D7040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Utilizzo attuale e futuro di Internet da parte delle aziende in Emilia-Romag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1981080"/>
          <a:ext cx="77803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1080"/>
                    <a:ext cx="77803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51200" y="1652760"/>
            <a:ext cx="370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i in % sul totale delle Unità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15440" y="3046320"/>
            <a:ext cx="196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-Gover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813200" y="568080"/>
            <a:ext cx="603360" cy="6413760"/>
          </a:xfrm>
          <a:custGeom>
            <a:avLst/>
            <a:gdLst>
              <a:gd name="textAreaLeft" fmla="*/ 0 w 603360"/>
              <a:gd name="textAreaRight" fmla="*/ 217800 w 603360"/>
              <a:gd name="textAreaTop" fmla="*/ 266040 h 6413760"/>
              <a:gd name="textAreaBottom" fmla="*/ 6147720 h 641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3"/>
                  <a:pt x="10800" y="2865"/>
                </a:cubicBezTo>
                <a:lnTo>
                  <a:pt x="10800" y="7935"/>
                </a:lnTo>
                <a:cubicBezTo>
                  <a:pt x="10800" y="9368"/>
                  <a:pt x="16200" y="10800"/>
                  <a:pt x="21600" y="10800"/>
                </a:cubicBezTo>
                <a:cubicBezTo>
                  <a:pt x="16200" y="10800"/>
                  <a:pt x="10800" y="12233"/>
                  <a:pt x="10800" y="13665"/>
                </a:cubicBezTo>
                <a:lnTo>
                  <a:pt x="10800" y="18735"/>
                </a:lnTo>
                <a:cubicBezTo>
                  <a:pt x="10800" y="2016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64A-2AF9-4674-807A-B9E927983B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iano Telematico Regionale -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gramma operativo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ano Telematico Regionale - Programma operativo 200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composto da 4 filoni di attivi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infrastrutture di telecomunicaz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progetti d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-government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presupposti della Società dell’Informaz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nuove inizi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progetti inclusi nei primi tre filoni di attività costituivano il Focus 2002 e hanno coinvolto direttamente, sia a livello di decisione che a livello attuattivo, tutti i diversi livelli di governo regionale, creando un “sistema” che è risultato vincente anche nel primo bando nazionale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-governmen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Questo approccio collaborativo si esprime ora nella fase di realizzazione dei progetti che andranno anche opportunamente integrati tra loro per creare un effettiv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-government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iona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ECE-C6E7-4BC9-813D-89C2B8576E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9:56:21Z</dcterms:created>
  <dc:creator>Regione Emilia-Romagna</dc:creator>
  <dc:description/>
  <dc:language>en-US</dc:language>
  <cp:lastModifiedBy>Regione Emilia Romagna</cp:lastModifiedBy>
  <cp:lastPrinted>2004-01-23T16:36:52Z</cp:lastPrinted>
  <dcterms:modified xsi:type="dcterms:W3CDTF">2004-01-23T16:37:29Z</dcterms:modified>
  <cp:revision>67</cp:revision>
  <dc:subject/>
  <dc:title>Emilia-Romagna regional strategy  on broadband</dc:title>
</cp:coreProperties>
</file>